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750B-04E7-4CCD-B1F3-97CBB545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49B8-103F-4615-87B7-BB9C77BA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97A0-7E7C-4D41-A1ED-6C3905BE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286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3334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5238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286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3334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84F37-F28F-41B0-BCAB-F3B578BE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2338-1094-48E1-94F1-DFCBF041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19BC-8905-47DA-B65D-770B2762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18EC-AB5C-4A4C-854C-CC53E7D5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20FA-D54C-4CB5-AAAF-C123E759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4E53-9D64-4EB7-BF82-FAB7F443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761760" y="2049480"/>
            <a:ext cx="8636040" cy="894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92C3-F8F0-4FC3-B890-AD84B0DE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A088-4E16-4BD0-9EBE-06699F6A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95B5-AF97-4C20-97DD-730F50C8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C160-D54C-4A5D-BDD0-118C7A07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BC99-D6D7-4551-963E-1F021BF6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9B32-55AD-407B-A3CF-8B154BBD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6049-1AFA-4158-A8C0-3FF9602E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9286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3334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5238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9286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3334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11DB-C4B0-4B5C-A178-DBAEBA29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A084A-DCB4-41D5-B722-230EBE84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F611A-2B6C-45B6-B4A9-2AF06375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537987-CC25-4440-B5AD-1B50A043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38CD2-C439-41B9-956A-35A21DCF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98F99-86F1-4F28-836B-0ECF0F90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D2A6-5549-4FE4-87D5-A40E9B71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761760" y="2049480"/>
            <a:ext cx="8636040" cy="894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93588-9F67-40C1-A304-C40DAED2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7C36D-0A88-4EAA-8976-9F1221C5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42E10-89DA-497D-898F-FB60FEEC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E96C2-46F9-4145-9759-9A8683D1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CEA0F-AA80-40B5-9E5E-431673C9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72FAB-6A61-408E-B309-9E946942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9286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3334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5238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9286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3334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AA074-A289-418D-990A-4DE94D41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5B25E-151F-497F-87E4-149ECC13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05258-83CC-4DEA-9B89-4A0F64CF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723E9-4DD6-4FD2-BB77-131E0F47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0547-EA07-494E-9120-866A3755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2838D-B259-4FD7-B70E-DDAB83A2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0A328-64A1-4F82-9477-1EE738AE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761760" y="2049480"/>
            <a:ext cx="8636040" cy="894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C55B6-9970-4A3B-8A8D-BA7BAA8F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30BB0-41E0-403E-BE0D-98887076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F0E70-8C3A-4416-AAA1-545A01BE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A5B88-F3BC-4971-AA25-AB5E162D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F45FF-B3B4-4132-B102-894788AA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E3E18-4EF3-4877-962D-793B25B6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9286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3334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5238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9286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3334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21A99-F5F4-4D6D-BECD-B74906B8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A6EE4-0772-4AD8-9C95-6B98E041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761760" y="2049480"/>
            <a:ext cx="8636040" cy="8949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661B-BD90-4FA5-A95E-309E3D1D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F65F-6E56-41EB-BDE2-7B39DF49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C86E-D21E-4D33-9C2C-F06CAA3A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8B8E-7C9C-43DB-BC17-AACD8362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5200" y="1454040"/>
            <a:ext cx="10388880" cy="6258600"/>
            <a:chOff x="-115200" y="1454040"/>
            <a:chExt cx="10388880" cy="625860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5200" y="1821240"/>
              <a:ext cx="3076200" cy="10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39960" bIns="-3996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42840" y="1988280"/>
              <a:ext cx="35859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7520" y="2112840"/>
              <a:ext cx="396144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75960" y="2263320"/>
              <a:ext cx="4367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90360" y="2463120"/>
              <a:ext cx="4885920" cy="104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14840" y="2685960"/>
              <a:ext cx="539388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64520" y="2988000"/>
              <a:ext cx="600228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74960" y="3286080"/>
              <a:ext cx="6612480" cy="1044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91600" y="3620160"/>
              <a:ext cx="7424280" cy="1080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39960" bIns="-3996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78000" y="4037040"/>
              <a:ext cx="8134920" cy="1008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552600" y="4614840"/>
              <a:ext cx="9171720" cy="1044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400" y="5080320"/>
              <a:ext cx="9526680" cy="1080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39960" bIns="-3996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325240" y="5163840"/>
              <a:ext cx="8134920" cy="1044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727520" y="5415480"/>
              <a:ext cx="6307920" cy="1044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7147080" y="6179760"/>
              <a:ext cx="3666600" cy="10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9467640" y="7348680"/>
              <a:ext cx="883440" cy="10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57760" y="4162320"/>
              <a:ext cx="10664280" cy="1008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49200" y="5989680"/>
              <a:ext cx="7305840" cy="1044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91600" y="6391800"/>
              <a:ext cx="4945680" cy="1008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94040" y="6917760"/>
              <a:ext cx="2469240" cy="1008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81600" y="5681520"/>
              <a:ext cx="9660960" cy="1008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203040" y="3755160"/>
              <a:ext cx="10611360" cy="1044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40400" y="3431520"/>
              <a:ext cx="10152720" cy="1044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658440" y="3178080"/>
              <a:ext cx="9657000" cy="1044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494720" y="2790360"/>
              <a:ext cx="8776800" cy="1044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856160" y="2603880"/>
              <a:ext cx="8394120" cy="1008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2193120" y="2428560"/>
              <a:ext cx="8037720" cy="1044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621520" y="2301120"/>
              <a:ext cx="7609320" cy="1008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909520" y="2148480"/>
              <a:ext cx="7327080" cy="108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39960" bIns="-3996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1076760" y="2970360"/>
              <a:ext cx="9179280" cy="1008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60360" y="5248440"/>
              <a:ext cx="10847880" cy="1044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307080" y="4696920"/>
              <a:ext cx="10766520" cy="1008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304280" y="5924520"/>
              <a:ext cx="296280" cy="169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15440" y="542196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79720" y="6441480"/>
              <a:ext cx="345240" cy="186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662640" y="4693680"/>
              <a:ext cx="275040" cy="1483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56400" y="542556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973240" y="5039640"/>
              <a:ext cx="275040" cy="1580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321920" y="5007600"/>
              <a:ext cx="266040" cy="1569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46560" y="4684680"/>
              <a:ext cx="264600" cy="1483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066400" y="4659840"/>
              <a:ext cx="275040" cy="1461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234320" y="4383000"/>
              <a:ext cx="275040" cy="1461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68520" y="4081680"/>
              <a:ext cx="235800" cy="1285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75120" y="3799800"/>
              <a:ext cx="235800" cy="107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5520" y="4065480"/>
              <a:ext cx="246960" cy="1270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59360" y="3348000"/>
              <a:ext cx="227520" cy="107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62800" y="316080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22240" y="334440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03600" y="3135960"/>
              <a:ext cx="225720" cy="1094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79440" y="3570120"/>
              <a:ext cx="236160" cy="1285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8440" y="3809880"/>
              <a:ext cx="234720" cy="10728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66960" y="4326840"/>
              <a:ext cx="264240" cy="158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85360" y="3577320"/>
              <a:ext cx="245160" cy="107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67960" y="3836520"/>
              <a:ext cx="245160" cy="107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99880" y="4076280"/>
              <a:ext cx="236160" cy="1267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34720" y="3610800"/>
              <a:ext cx="23616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13480" y="318060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45280" y="337248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81320" y="317700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07720" y="336060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88680" y="315216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8360" y="3584520"/>
              <a:ext cx="235800" cy="1281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9160" y="3820320"/>
              <a:ext cx="236160" cy="1285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06880" y="337968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1720" y="316980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8360" y="335340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1040" y="4097520"/>
              <a:ext cx="24516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35320" y="3841560"/>
              <a:ext cx="23580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90680" y="4360320"/>
              <a:ext cx="275040" cy="1566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86320" y="3554280"/>
              <a:ext cx="246960" cy="1267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69320" y="2998800"/>
              <a:ext cx="216720" cy="89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80880" y="2820600"/>
              <a:ext cx="216720" cy="88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41880" y="2656440"/>
              <a:ext cx="217080" cy="88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27080" y="2813760"/>
              <a:ext cx="216720" cy="89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96440" y="2980800"/>
              <a:ext cx="218160" cy="89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46360" y="2667240"/>
              <a:ext cx="216720" cy="87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80280" y="2991600"/>
              <a:ext cx="216720" cy="87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35680" y="2824200"/>
              <a:ext cx="216720" cy="87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3640" y="2973960"/>
              <a:ext cx="216720" cy="89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20920" y="2667240"/>
              <a:ext cx="217080" cy="87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72280" y="2817000"/>
              <a:ext cx="216720" cy="88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1040" y="2660040"/>
              <a:ext cx="217080" cy="87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6120" y="2995200"/>
              <a:ext cx="217080" cy="87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91480" y="2813760"/>
              <a:ext cx="218520" cy="87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30240" y="2665440"/>
              <a:ext cx="218160" cy="89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67200" y="2977560"/>
              <a:ext cx="218520" cy="89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90120" y="2820600"/>
              <a:ext cx="216720" cy="88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39320" y="2656440"/>
              <a:ext cx="216720" cy="88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97720" y="2669040"/>
              <a:ext cx="218520" cy="89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79960" y="3000600"/>
              <a:ext cx="225720" cy="87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06480" y="2836440"/>
              <a:ext cx="225720" cy="87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60440" y="6443280"/>
              <a:ext cx="345960" cy="195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46320" y="7080120"/>
              <a:ext cx="336600" cy="1972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30840" y="545040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92520" y="5057280"/>
              <a:ext cx="275040" cy="1566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26760" y="4705920"/>
              <a:ext cx="275040" cy="1483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8320" y="4328280"/>
              <a:ext cx="264240" cy="1587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75920" y="592668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93800" y="4060440"/>
              <a:ext cx="236160" cy="1285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19640" y="3552480"/>
              <a:ext cx="236160" cy="1270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19320" y="3806280"/>
              <a:ext cx="236160" cy="1072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65240" y="334800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50720" y="3169800"/>
              <a:ext cx="227520" cy="10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45560" y="2998800"/>
              <a:ext cx="218520" cy="8928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20600" y="2827800"/>
              <a:ext cx="216720" cy="878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71160" y="2667240"/>
              <a:ext cx="225360" cy="892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95080" y="2524320"/>
              <a:ext cx="195480" cy="88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63680" y="2522520"/>
              <a:ext cx="197280" cy="87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95280" y="2522520"/>
              <a:ext cx="197280" cy="87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41600" y="2409840"/>
              <a:ext cx="195480" cy="89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58760" y="2278800"/>
              <a:ext cx="197280" cy="882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25840" y="2063880"/>
              <a:ext cx="197280" cy="88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08480" y="2413440"/>
              <a:ext cx="197280" cy="89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57920" y="2152080"/>
              <a:ext cx="197280" cy="89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94320" y="2265120"/>
              <a:ext cx="197280" cy="89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29040" y="2543760"/>
              <a:ext cx="195480" cy="87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5160" y="2511720"/>
              <a:ext cx="197280" cy="88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76760" y="2265120"/>
              <a:ext cx="195840" cy="89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7120" y="2395440"/>
              <a:ext cx="195480" cy="89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320" y="2035800"/>
              <a:ext cx="197280" cy="87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03520" y="2407680"/>
              <a:ext cx="186840" cy="79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72760" y="2540160"/>
              <a:ext cx="185040" cy="774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40880" y="2392200"/>
              <a:ext cx="186480" cy="78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12800" y="2392200"/>
              <a:ext cx="186840" cy="78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920" y="2166120"/>
              <a:ext cx="186480" cy="774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2840" y="1956240"/>
              <a:ext cx="186840" cy="774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42160" y="1843560"/>
              <a:ext cx="186840" cy="7956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24680" y="1834560"/>
              <a:ext cx="1864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18440" y="2252520"/>
              <a:ext cx="18648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58000" y="2381400"/>
              <a:ext cx="1864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46440" y="2518920"/>
              <a:ext cx="1864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19240" y="1869840"/>
              <a:ext cx="18684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5480" y="1852200"/>
              <a:ext cx="1864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4960" y="1875240"/>
              <a:ext cx="185040" cy="78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86040" y="226512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32240" y="2051640"/>
              <a:ext cx="196920" cy="78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46400" y="216828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97640" y="1961640"/>
              <a:ext cx="197280" cy="774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25680" y="185436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83760" y="2550600"/>
              <a:ext cx="195480" cy="774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83960" y="2282400"/>
              <a:ext cx="1972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0720" y="2044440"/>
              <a:ext cx="195480" cy="78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18240" y="1942200"/>
              <a:ext cx="197280" cy="774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78040" y="2049840"/>
              <a:ext cx="195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06240" y="239220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89960" y="2157480"/>
              <a:ext cx="195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64680" y="193716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91440" y="2273760"/>
              <a:ext cx="1969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1440" y="2368800"/>
              <a:ext cx="19728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96040" y="203940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1680" y="215568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16960" y="1961640"/>
              <a:ext cx="19728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07640" y="205704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45840" y="1977480"/>
              <a:ext cx="1972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42960" y="214488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98800" y="2063880"/>
              <a:ext cx="19728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960" y="2173320"/>
              <a:ext cx="19584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4640" y="1940760"/>
              <a:ext cx="19728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9160" y="2314440"/>
              <a:ext cx="19548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12720" y="1765800"/>
              <a:ext cx="177840" cy="669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64480" y="1787040"/>
              <a:ext cx="178200" cy="68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66840" y="1778400"/>
              <a:ext cx="177840" cy="669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31760" y="1765800"/>
              <a:ext cx="176040" cy="68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91760" y="1660320"/>
              <a:ext cx="177840" cy="68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87120" y="1755360"/>
              <a:ext cx="177840" cy="68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39760" y="2504880"/>
              <a:ext cx="186480" cy="89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09720" y="2674080"/>
              <a:ext cx="216720" cy="89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82800" y="2270160"/>
              <a:ext cx="197280" cy="89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85920" y="213804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63080" y="1602000"/>
              <a:ext cx="13932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28760" y="1602000"/>
              <a:ext cx="13896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94160" y="1532880"/>
              <a:ext cx="13896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09520" y="1454040"/>
              <a:ext cx="14616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82560" y="1532880"/>
              <a:ext cx="14796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33360" y="1628280"/>
              <a:ext cx="14616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73560" y="1688400"/>
              <a:ext cx="16740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17280" y="1697040"/>
              <a:ext cx="15696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97200" y="16812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96680" y="7102800"/>
              <a:ext cx="343800" cy="1850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38360" y="6474960"/>
              <a:ext cx="345240" cy="19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0680" y="550512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61120" y="5079960"/>
              <a:ext cx="276480" cy="1566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00480" y="595656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23440" y="4686840"/>
              <a:ext cx="266040" cy="1479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13680" y="4365720"/>
              <a:ext cx="275040" cy="1569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31640" y="4081680"/>
              <a:ext cx="236160" cy="1270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10600" y="3566520"/>
              <a:ext cx="236160" cy="1285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94880" y="3813480"/>
              <a:ext cx="245160" cy="10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576640" y="338688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834400" y="318744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02600" y="3002040"/>
              <a:ext cx="216720" cy="88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307080" y="2846880"/>
              <a:ext cx="218520" cy="89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520920" y="2683080"/>
              <a:ext cx="216720" cy="89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40920" y="7180560"/>
              <a:ext cx="345240" cy="18648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39320" y="6513840"/>
              <a:ext cx="345240" cy="195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18240" y="6535080"/>
              <a:ext cx="354240" cy="1864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20720" y="7141680"/>
              <a:ext cx="345240" cy="1850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5120" y="5989680"/>
              <a:ext cx="296280" cy="169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18600" y="5540400"/>
              <a:ext cx="294120" cy="167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896320" y="6028560"/>
              <a:ext cx="294120" cy="16740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29800" y="5067360"/>
              <a:ext cx="275040" cy="1461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335520" y="5496120"/>
              <a:ext cx="295920" cy="167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695160" y="5078160"/>
              <a:ext cx="275040" cy="15660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16440" y="4714920"/>
              <a:ext cx="275040" cy="1461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758800" y="4388400"/>
              <a:ext cx="275040" cy="1483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601920" y="3619800"/>
              <a:ext cx="235800" cy="1285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102600" y="4081680"/>
              <a:ext cx="246600" cy="1285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379440" y="3838320"/>
              <a:ext cx="236160" cy="10728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843480" y="340956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033920" y="319464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87840" y="4727160"/>
              <a:ext cx="275040" cy="1461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15200" y="5053680"/>
              <a:ext cx="264600" cy="1566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80" y="4369320"/>
              <a:ext cx="275040" cy="1566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6560" y="2532960"/>
              <a:ext cx="18684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919080" y="7072920"/>
              <a:ext cx="354600" cy="1864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7281720" y="6937200"/>
            <a:ext cx="2370240" cy="508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D85801EA-A6F7-46D0-A365-3497E943D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507960" y="6937200"/>
            <a:ext cx="2370240" cy="508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471840" y="6937200"/>
            <a:ext cx="3216240" cy="508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37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5480" indent="-31752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70080" indent="-2541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8040" indent="-254160">
              <a:spcBef>
                <a:spcPts val="9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6000" indent="-2541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6000" indent="-2541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6000" indent="-25416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16640" y="1457280"/>
            <a:ext cx="10388880" cy="6258600"/>
            <a:chOff x="-116640" y="1457280"/>
            <a:chExt cx="10388880" cy="625860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6640" y="1824480"/>
              <a:ext cx="3076200" cy="108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39960" bIns="-3996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44280" y="1991520"/>
              <a:ext cx="35859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8960" y="2115720"/>
              <a:ext cx="396144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77400" y="2266560"/>
              <a:ext cx="4367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91800" y="2466360"/>
              <a:ext cx="4885920" cy="104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16280" y="2688840"/>
              <a:ext cx="539388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65960" y="2991240"/>
              <a:ext cx="600228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76400" y="3289320"/>
              <a:ext cx="6612480" cy="1044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93040" y="3623400"/>
              <a:ext cx="7424280" cy="1080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39960" bIns="-3996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79440" y="4039920"/>
              <a:ext cx="8134920" cy="1008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554040" y="4618080"/>
              <a:ext cx="9171720" cy="1044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960" y="5083560"/>
              <a:ext cx="9526680" cy="1080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39960" bIns="-3996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323800" y="5167080"/>
              <a:ext cx="8134920" cy="1044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726080" y="5418720"/>
              <a:ext cx="6307920" cy="1044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7145640" y="6182640"/>
              <a:ext cx="3666600" cy="10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9466200" y="7351920"/>
              <a:ext cx="883440" cy="10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59200" y="4165560"/>
              <a:ext cx="10664280" cy="1008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50640" y="5992920"/>
              <a:ext cx="7305840" cy="1044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93040" y="6394680"/>
              <a:ext cx="4945680" cy="1008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95480" y="6920640"/>
              <a:ext cx="2469240" cy="1008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83040" y="5684400"/>
              <a:ext cx="9660960" cy="1008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204480" y="3758400"/>
              <a:ext cx="10611360" cy="1044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38960" y="3434400"/>
              <a:ext cx="10152720" cy="1044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657000" y="3181320"/>
              <a:ext cx="9657000" cy="1044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493280" y="2793600"/>
              <a:ext cx="8776800" cy="1044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854720" y="2606760"/>
              <a:ext cx="8394120" cy="1008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2191680" y="2431800"/>
              <a:ext cx="8037720" cy="1044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620080" y="2304360"/>
              <a:ext cx="7609320" cy="1008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908080" y="2151720"/>
              <a:ext cx="7327080" cy="108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39960" bIns="-3996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1075320" y="2973600"/>
              <a:ext cx="9179280" cy="1008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61800" y="5251320"/>
              <a:ext cx="10847880" cy="1044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320" bIns="-403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308520" y="4699800"/>
              <a:ext cx="10766520" cy="1008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40680" bIns="-406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02840" y="5927760"/>
              <a:ext cx="296280" cy="169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4000" y="542484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8280" y="6444360"/>
              <a:ext cx="345240" cy="186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61200" y="4696560"/>
              <a:ext cx="275040" cy="14832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54960" y="542844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5042520"/>
              <a:ext cx="275040" cy="1580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20480" y="5010480"/>
              <a:ext cx="266040" cy="1569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120" y="4687920"/>
              <a:ext cx="264600" cy="1483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64960" y="4663080"/>
              <a:ext cx="275040" cy="1461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32880" y="4386240"/>
              <a:ext cx="275040" cy="1461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67080" y="4084560"/>
              <a:ext cx="235800" cy="1285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73680" y="3802680"/>
              <a:ext cx="235800" cy="107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34080" y="4068720"/>
              <a:ext cx="246960" cy="1270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57920" y="3351240"/>
              <a:ext cx="227520" cy="107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61360" y="316404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20800" y="334764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02160" y="3139200"/>
              <a:ext cx="225720" cy="1094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78000" y="3573000"/>
              <a:ext cx="236160" cy="1285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37000" y="3813120"/>
              <a:ext cx="234720" cy="10728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65520" y="4329720"/>
              <a:ext cx="264240" cy="158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83920" y="3580200"/>
              <a:ext cx="245160" cy="107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6520" y="3839400"/>
              <a:ext cx="245160" cy="107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98440" y="4079520"/>
              <a:ext cx="236160" cy="1267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33280" y="3614040"/>
              <a:ext cx="23616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12040" y="318348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43840" y="337572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79880" y="317988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06280" y="336348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87240" y="315540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26920" y="3587400"/>
              <a:ext cx="235800" cy="1281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7720" y="3823560"/>
              <a:ext cx="236160" cy="1285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05440" y="338292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280" y="317268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6920" y="335628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600" y="4100760"/>
              <a:ext cx="24516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33880" y="3844800"/>
              <a:ext cx="235800" cy="107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89240" y="4363560"/>
              <a:ext cx="275040" cy="1566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84880" y="3557520"/>
              <a:ext cx="246960" cy="1267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67880" y="3002040"/>
              <a:ext cx="216720" cy="89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79440" y="2823840"/>
              <a:ext cx="216720" cy="88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40440" y="2659680"/>
              <a:ext cx="217080" cy="88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25640" y="2817000"/>
              <a:ext cx="216720" cy="89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95000" y="2984040"/>
              <a:ext cx="218160" cy="89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44920" y="2670480"/>
              <a:ext cx="216720" cy="87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78840" y="2994840"/>
              <a:ext cx="216720" cy="87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34240" y="2827440"/>
              <a:ext cx="216720" cy="87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32200" y="2977200"/>
              <a:ext cx="216720" cy="89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19480" y="2670480"/>
              <a:ext cx="217080" cy="87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70840" y="2820240"/>
              <a:ext cx="216720" cy="88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9600" y="2663280"/>
              <a:ext cx="217080" cy="87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680" y="2998440"/>
              <a:ext cx="217080" cy="87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90040" y="2817000"/>
              <a:ext cx="218520" cy="87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28800" y="2668680"/>
              <a:ext cx="218160" cy="89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65760" y="2980800"/>
              <a:ext cx="218520" cy="89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88680" y="2823840"/>
              <a:ext cx="216720" cy="88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37880" y="2659680"/>
              <a:ext cx="216720" cy="88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496280" y="2672280"/>
              <a:ext cx="218520" cy="89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78520" y="3003840"/>
              <a:ext cx="225720" cy="87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05040" y="2839680"/>
              <a:ext cx="225720" cy="87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59000" y="6446160"/>
              <a:ext cx="345960" cy="195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44880" y="7083000"/>
              <a:ext cx="336600" cy="1972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29400" y="545328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91080" y="5060160"/>
              <a:ext cx="275040" cy="1566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25320" y="4709160"/>
              <a:ext cx="275040" cy="1483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26880" y="4331520"/>
              <a:ext cx="264240" cy="1587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74480" y="592956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92360" y="4063680"/>
              <a:ext cx="236160" cy="1285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18200" y="3555720"/>
              <a:ext cx="236160" cy="1270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17880" y="3809520"/>
              <a:ext cx="236160" cy="1072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63800" y="335124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49280" y="3172680"/>
              <a:ext cx="227520" cy="10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944120" y="3002040"/>
              <a:ext cx="218520" cy="8928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19160" y="2831040"/>
              <a:ext cx="216720" cy="878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469720" y="2670480"/>
              <a:ext cx="225360" cy="892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93640" y="2527200"/>
              <a:ext cx="195480" cy="8820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62240" y="2525760"/>
              <a:ext cx="197280" cy="87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93840" y="2525760"/>
              <a:ext cx="197280" cy="87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40160" y="2413080"/>
              <a:ext cx="195480" cy="89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557320" y="2282040"/>
              <a:ext cx="197280" cy="882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24400" y="2067120"/>
              <a:ext cx="197280" cy="88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07040" y="2416680"/>
              <a:ext cx="197280" cy="8928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56480" y="2155320"/>
              <a:ext cx="197280" cy="89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92880" y="2268000"/>
              <a:ext cx="197280" cy="89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27600" y="2547000"/>
              <a:ext cx="195480" cy="87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53720" y="2514960"/>
              <a:ext cx="197280" cy="88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75320" y="2268000"/>
              <a:ext cx="195840" cy="89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5680" y="2398680"/>
              <a:ext cx="195480" cy="89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2880" y="2039040"/>
              <a:ext cx="197280" cy="87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02080" y="2410920"/>
              <a:ext cx="186840" cy="79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71320" y="2543400"/>
              <a:ext cx="185040" cy="774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39440" y="2395440"/>
              <a:ext cx="186480" cy="78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11360" y="2395440"/>
              <a:ext cx="186840" cy="78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28480" y="2169360"/>
              <a:ext cx="186480" cy="774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21400" y="1959480"/>
              <a:ext cx="186840" cy="774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40720" y="1846800"/>
              <a:ext cx="186840" cy="7956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3240" y="1837800"/>
              <a:ext cx="1864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17000" y="2255760"/>
              <a:ext cx="18648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56560" y="2384640"/>
              <a:ext cx="1864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45000" y="2522160"/>
              <a:ext cx="1864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17800" y="1873080"/>
              <a:ext cx="18684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14040" y="1855440"/>
              <a:ext cx="1864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73520" y="1878480"/>
              <a:ext cx="185040" cy="78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84600" y="226800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30800" y="2054880"/>
              <a:ext cx="196920" cy="78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44960" y="217152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6200" y="1964880"/>
              <a:ext cx="197280" cy="774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24240" y="185760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82320" y="2553840"/>
              <a:ext cx="195480" cy="774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82520" y="2285640"/>
              <a:ext cx="1972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09280" y="2047680"/>
              <a:ext cx="195480" cy="78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16800" y="1945440"/>
              <a:ext cx="197280" cy="774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76600" y="2053080"/>
              <a:ext cx="195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304800" y="239544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88520" y="2160720"/>
              <a:ext cx="195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63240" y="194040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90000" y="2277000"/>
              <a:ext cx="1969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30000" y="2372040"/>
              <a:ext cx="19728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94600" y="204264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80240" y="2158920"/>
              <a:ext cx="197280" cy="78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15520" y="1964880"/>
              <a:ext cx="19728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06200" y="2060280"/>
              <a:ext cx="195840" cy="78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44400" y="1980720"/>
              <a:ext cx="1972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41520" y="214812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97360" y="2067120"/>
              <a:ext cx="19728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2520" y="2176560"/>
              <a:ext cx="19584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63200" y="1944000"/>
              <a:ext cx="19728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7720" y="2317680"/>
              <a:ext cx="19548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11280" y="1769040"/>
              <a:ext cx="177840" cy="669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63040" y="1790280"/>
              <a:ext cx="178200" cy="68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65400" y="1781280"/>
              <a:ext cx="177840" cy="669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30320" y="1769040"/>
              <a:ext cx="176040" cy="68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90320" y="1663560"/>
              <a:ext cx="177840" cy="68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85680" y="1758600"/>
              <a:ext cx="177840" cy="68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38320" y="2508120"/>
              <a:ext cx="186480" cy="89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08280" y="2677320"/>
              <a:ext cx="216720" cy="896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81360" y="2273400"/>
              <a:ext cx="197280" cy="89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84480" y="2141280"/>
              <a:ext cx="195840" cy="89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61640" y="1605240"/>
              <a:ext cx="13932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27320" y="1605240"/>
              <a:ext cx="13896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92720" y="1536120"/>
              <a:ext cx="13896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08080" y="1457280"/>
              <a:ext cx="14616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81120" y="1536120"/>
              <a:ext cx="14796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31920" y="1631520"/>
              <a:ext cx="146160" cy="597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72120" y="1691640"/>
              <a:ext cx="16740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15840" y="1700280"/>
              <a:ext cx="15696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95760" y="1684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95240" y="7105680"/>
              <a:ext cx="343800" cy="1850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6920" y="6477840"/>
              <a:ext cx="345240" cy="19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09240" y="550800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59680" y="5082840"/>
              <a:ext cx="276480" cy="1566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99040" y="5959440"/>
              <a:ext cx="296280" cy="1674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2000" y="4689720"/>
              <a:ext cx="266040" cy="1479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12240" y="4368600"/>
              <a:ext cx="275040" cy="15696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30200" y="4084560"/>
              <a:ext cx="236160" cy="1270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309160" y="3569400"/>
              <a:ext cx="236160" cy="1285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993440" y="3816720"/>
              <a:ext cx="245160" cy="10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75200" y="339012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2960" y="3190320"/>
              <a:ext cx="225720" cy="1072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9101160" y="3005280"/>
              <a:ext cx="216720" cy="88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305640" y="2850120"/>
              <a:ext cx="218520" cy="89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519480" y="2685960"/>
              <a:ext cx="216720" cy="89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739480" y="7183440"/>
              <a:ext cx="345240" cy="186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37880" y="6516720"/>
              <a:ext cx="345240" cy="195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416800" y="6537960"/>
              <a:ext cx="354240" cy="1864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19280" y="7144560"/>
              <a:ext cx="345240" cy="1850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33680" y="5992920"/>
              <a:ext cx="296280" cy="169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17160" y="5543280"/>
              <a:ext cx="294120" cy="167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894880" y="6031440"/>
              <a:ext cx="294120" cy="16740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28360" y="5070600"/>
              <a:ext cx="275040" cy="1461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334080" y="5499360"/>
              <a:ext cx="295920" cy="167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693720" y="5081400"/>
              <a:ext cx="275040" cy="15660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415000" y="4717800"/>
              <a:ext cx="275040" cy="1461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757360" y="4391280"/>
              <a:ext cx="275040" cy="1483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600480" y="3622680"/>
              <a:ext cx="235800" cy="1285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101160" y="4084560"/>
              <a:ext cx="246600" cy="1285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378000" y="3841560"/>
              <a:ext cx="236160" cy="1072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842040" y="341280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032480" y="3197520"/>
              <a:ext cx="225360" cy="10728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986400" y="4730040"/>
              <a:ext cx="275040" cy="1461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16640" y="5056560"/>
              <a:ext cx="264600" cy="1566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4372200"/>
              <a:ext cx="275040" cy="1566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8000" y="2536200"/>
              <a:ext cx="186840" cy="774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917640" y="7075800"/>
              <a:ext cx="354600" cy="1864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1760" y="2049480"/>
            <a:ext cx="8636040" cy="1930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507960" y="6937200"/>
            <a:ext cx="2370240" cy="508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7281720" y="6937200"/>
            <a:ext cx="2370240" cy="508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99BD8E26-B4BC-416F-8374-388858E90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ctr">
              <a:spcBef>
                <a:spcPts val="77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015920" algn="ctr">
              <a:spcBef>
                <a:spcPts val="675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523880" algn="ctr">
              <a:spcBef>
                <a:spcPts val="55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31840" algn="ctr">
              <a:spcBef>
                <a:spcPts val="55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31840">
              <a:spcBef>
                <a:spcPts val="55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31840">
              <a:spcBef>
                <a:spcPts val="55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0" y="0"/>
            <a:ext cx="10177200" cy="7619760"/>
            <a:chOff x="0" y="0"/>
            <a:chExt cx="10177200" cy="7619760"/>
          </a:xfrm>
        </p:grpSpPr>
        <p:sp>
          <p:nvSpPr>
            <p:cNvPr id="515" name=""/>
            <p:cNvSpPr/>
            <p:nvPr/>
          </p:nvSpPr>
          <p:spPr>
            <a:xfrm>
              <a:off x="9228600" y="1440"/>
              <a:ext cx="930960" cy="761832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62640" y="0"/>
              <a:ext cx="33804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7760" y="0"/>
              <a:ext cx="7617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79080" y="0"/>
              <a:ext cx="423360" cy="7619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70600" y="0"/>
              <a:ext cx="677160" cy="7619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46720" y="0"/>
              <a:ext cx="1015920" cy="7619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960" y="0"/>
              <a:ext cx="3387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0" y="0"/>
              <a:ext cx="5079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09880" y="0"/>
              <a:ext cx="423000" cy="7619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10760" y="0"/>
              <a:ext cx="9309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01040" y="0"/>
              <a:ext cx="253800" cy="76197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820480" y="0"/>
              <a:ext cx="444240" cy="76197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212680" y="0"/>
              <a:ext cx="25380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127720" y="0"/>
              <a:ext cx="1185120" cy="761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80480" y="0"/>
              <a:ext cx="11001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773040" y="0"/>
              <a:ext cx="93132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04720" y="0"/>
              <a:ext cx="42300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27160" y="0"/>
              <a:ext cx="267840" cy="7619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73120" y="0"/>
              <a:ext cx="5925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40" y="6834960"/>
              <a:ext cx="10159920" cy="78480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0" y="6820560"/>
              <a:ext cx="10177200" cy="3070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7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507960" y="1777680"/>
            <a:ext cx="9144000" cy="5033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317520">
              <a:spcBef>
                <a:spcPts val="9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70080" indent="-254160">
              <a:spcBef>
                <a:spcPts val="9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778040" indent="-25416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286000" indent="-25416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7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8"/>
          </p:nvPr>
        </p:nvSpPr>
        <p:spPr>
          <a:xfrm>
            <a:off x="7281720" y="6937200"/>
            <a:ext cx="2370240" cy="508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3C199F05-CA69-47B8-B64A-D418F7A13DBE}" type="slidenum">
              <a:rPr b="0" lang="en-US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dt" idx="9"/>
          </p:nvPr>
        </p:nvSpPr>
        <p:spPr>
          <a:xfrm>
            <a:off x="50796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0" y="0"/>
            <a:ext cx="10177200" cy="7619760"/>
            <a:chOff x="0" y="0"/>
            <a:chExt cx="10177200" cy="7619760"/>
          </a:xfrm>
        </p:grpSpPr>
        <p:sp>
          <p:nvSpPr>
            <p:cNvPr id="578" name=""/>
            <p:cNvSpPr/>
            <p:nvPr/>
          </p:nvSpPr>
          <p:spPr>
            <a:xfrm>
              <a:off x="9228600" y="1440"/>
              <a:ext cx="930960" cy="761832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862640" y="0"/>
              <a:ext cx="33804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047760" y="0"/>
              <a:ext cx="7617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979080" y="0"/>
              <a:ext cx="423360" cy="7619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70600" y="0"/>
              <a:ext cx="677160" cy="7619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46720" y="0"/>
              <a:ext cx="1015920" cy="7619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7960" y="0"/>
              <a:ext cx="3387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0" y="0"/>
              <a:ext cx="5079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09880" y="0"/>
              <a:ext cx="423000" cy="7619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10760" y="0"/>
              <a:ext cx="9309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01040" y="0"/>
              <a:ext cx="253800" cy="76197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20480" y="0"/>
              <a:ext cx="444240" cy="76197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212680" y="0"/>
              <a:ext cx="25380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127720" y="0"/>
              <a:ext cx="1185120" cy="761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80480" y="0"/>
              <a:ext cx="11001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73040" y="0"/>
              <a:ext cx="93132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704720" y="0"/>
              <a:ext cx="42300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727160" y="0"/>
              <a:ext cx="267840" cy="76197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173120" y="0"/>
              <a:ext cx="592560" cy="76197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440" y="6834960"/>
              <a:ext cx="10159920" cy="78480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0" y="6820560"/>
              <a:ext cx="10177200" cy="3070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1760" y="1778040"/>
            <a:ext cx="8636040" cy="203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53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10"/>
          </p:nvPr>
        </p:nvSpPr>
        <p:spPr>
          <a:xfrm>
            <a:off x="507960" y="6937200"/>
            <a:ext cx="2370240" cy="508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ftr" idx="11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sldNum" idx="12"/>
          </p:nvPr>
        </p:nvSpPr>
        <p:spPr>
          <a:xfrm>
            <a:off x="7281720" y="6937200"/>
            <a:ext cx="2370240" cy="508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C646D020-EF49-4C54-9F8D-386E686E88EF}" type="slidenum">
              <a:rPr b="0" lang="en-US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507960" indent="0" algn="ctr">
              <a:spcBef>
                <a:spcPts val="77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2" marL="1015920" algn="ctr">
              <a:spcBef>
                <a:spcPts val="675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3" marL="1523880" algn="ctr"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4" marL="2031840" algn="ctr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5" marL="20318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6" marL="20318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google.com/imgres?imgurl=http://www.almightydad.com/wp-content/uploads/2009/11/smiley-face.jpg&amp;imgrefurl=http://www.almightydad.com/fitness-nutrition/gaining-holiday-weight-dont-let-it-get-you-down&amp;usg=__N7bOAJaSsG2cBlS0b-NQuMBUhR4=&amp;h=1200&amp;w=1200&amp;sz=226&amp;hl=en&amp;start=1&amp;zoom=1&amp;itbs=1&amp;tbnid=BqoKe6gz24p-aM:&amp;tbnh=150&amp;tbnw=150&amp;prev=/images%3Fq%3Dsmiley%2Bface%26hl%3Den%26gbv%3D2%26tbs%3Disch:1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06400" y="1831680"/>
            <a:ext cx="854712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Arial"/>
              </a:rPr>
              <a:t>Present Day Russia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566720" y="4368960"/>
            <a:ext cx="702792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By: Magdalena, Jennifer, and Jas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6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79440" y="304560"/>
            <a:ext cx="9401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700" spc="-1" strike="noStrike">
                <a:solidFill>
                  <a:srgbClr val="ffff00"/>
                </a:solidFill>
                <a:latin typeface="Arial"/>
              </a:rPr>
              <a:t>Environmental Issues</a:t>
            </a:r>
            <a:endParaRPr b="0" lang="en-US" sz="67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379440" y="1828800"/>
            <a:ext cx="9401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00ff00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00ff00"/>
                </a:solidFill>
                <a:latin typeface="Arial"/>
              </a:rPr>
              <a:t>Russia’s old communist government didn’t do much for the government. They gave out lots of dirty smoke and dumped poisons into rivers and lakes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ff6600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ff6600"/>
                </a:solidFill>
                <a:latin typeface="Arial"/>
              </a:rPr>
              <a:t>They also polluted the air, water, and land.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9966ff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9966ff"/>
                </a:solidFill>
                <a:latin typeface="Arial"/>
              </a:rPr>
              <a:t>Now Russia is using nuclear energy plants. Even though they don’t pollute the air, they leave dangerous by-products.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28" dur="2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30" dur="2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32" dur="20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79440" y="304560"/>
            <a:ext cx="9401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700" spc="-1" strike="noStrike">
                <a:solidFill>
                  <a:srgbClr val="3366ff"/>
                </a:solidFill>
                <a:latin typeface="Arial"/>
              </a:rPr>
              <a:t>Environmental Issues</a:t>
            </a:r>
            <a:endParaRPr b="0" lang="en-US" sz="67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379440" y="1828800"/>
            <a:ext cx="9401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9383b3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9383b3"/>
                </a:solidFill>
                <a:latin typeface="Arial"/>
              </a:rPr>
              <a:t>Here are some pictures showing these environmental problems in Russia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>
              <a:lnSpc>
                <a:spcPct val="95000"/>
              </a:lnSpc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>
              <a:lnSpc>
                <a:spcPct val="95000"/>
              </a:lnSpc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008000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hese are factories g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out gas (right). And to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left) are nuclear power pla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4867200" y="3429000"/>
            <a:ext cx="5292720" cy="3525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0" y="2590920"/>
            <a:ext cx="4741920" cy="30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8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6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6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79440" y="304560"/>
            <a:ext cx="9401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700" spc="-1" strike="noStrike">
                <a:solidFill>
                  <a:srgbClr val="336699"/>
                </a:solidFill>
                <a:latin typeface="Arial"/>
              </a:rPr>
              <a:t>Life Expectancy</a:t>
            </a:r>
            <a:endParaRPr b="0" lang="en-US" sz="67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379440" y="1828800"/>
            <a:ext cx="9401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ussia' old economy polluted the air making it less healthy. Russia’s air pollution also has caused rising cancer and falling life expectancy in the countr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"/>
              </a:rPr>
              <a:t>Now most people are suffering from lung diseases. This shows that Russia’s population is becoming less health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tal population: 66.39 year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le: 59.91 year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emale: 73.27 years (2004 est.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79440" y="304560"/>
            <a:ext cx="9401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700" spc="-1" strike="noStrike">
                <a:solidFill>
                  <a:srgbClr val="993366"/>
                </a:solidFill>
                <a:latin typeface="Arial"/>
              </a:rPr>
              <a:t>Life Expectancy</a:t>
            </a:r>
            <a:endParaRPr b="0" lang="en-US" sz="67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379440" y="1828800"/>
            <a:ext cx="9401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ccff33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000" spc="-1" strike="noStrike">
                <a:solidFill>
                  <a:srgbClr val="ccff33"/>
                </a:solidFill>
                <a:latin typeface="Arial"/>
              </a:rPr>
              <a:t>Here is a chart showing lowering rates of life expectancy in Russia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930240" y="2624040"/>
            <a:ext cx="7886880" cy="499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7320" y="303120"/>
            <a:ext cx="9667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45818e"/>
                </a:solidFill>
                <a:latin typeface="Arial"/>
              </a:rPr>
              <a:t>          </a:t>
            </a:r>
            <a:r>
              <a:rPr b="0" lang="en-US" sz="4900" spc="-1" strike="noStrike">
                <a:solidFill>
                  <a:srgbClr val="45818e"/>
                </a:solidFill>
                <a:latin typeface="Arial"/>
              </a:rPr>
              <a:t>Russia's New Goverment</a:t>
            </a:r>
            <a:endParaRPr b="0" lang="en-US" sz="49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d966"/>
                </a:solidFill>
                <a:latin typeface="Arial"/>
              </a:rPr>
              <a:t>Russia is still learning on how to act in their new gover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6b26b"/>
                </a:solidFill>
                <a:latin typeface="Arial"/>
              </a:rPr>
              <a:t>Before, the Russian leaders could do whatever they wan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6b26b"/>
                </a:solidFill>
                <a:latin typeface="Arial"/>
              </a:rPr>
              <a:t>They also got to punish any people who would criticize their desc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e06666"/>
                </a:solidFill>
                <a:latin typeface="Arial"/>
              </a:rPr>
              <a:t>Now the leaders must learn to follow the new law and the Russian goverment officials have to adjust to accepting disagreements over the goverment polici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                   </a:t>
            </a:r>
            <a:r>
              <a:rPr b="1" lang="en-US" sz="4900" spc="-1" strike="noStrike">
                <a:solidFill>
                  <a:srgbClr val="6fa8dc"/>
                </a:solidFill>
                <a:latin typeface="Arial"/>
              </a:rPr>
              <a:t>Ethnic Groups</a:t>
            </a:r>
            <a:endParaRPr b="0" lang="en-US" sz="49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134f5c"/>
                </a:solidFill>
                <a:latin typeface="Arial"/>
              </a:rPr>
              <a:t>Russia has many different ethnic groups.Some groups want to form their own countries seperate from Rus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b45f06"/>
                </a:solidFill>
                <a:latin typeface="Arial"/>
              </a:rPr>
              <a:t>One of these groups are the Chechens. They live in Chechnya close to the Caspian Sea in the southern part of Rus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 Russian troops have fought the Chechen forces to still keep Chechnya a part of southern Rus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9fc5e8"/>
                </a:solidFill>
                <a:latin typeface="Arial"/>
              </a:rPr>
              <a:t>                  </a:t>
            </a:r>
            <a:r>
              <a:rPr b="1" lang="en-US" sz="4900" spc="-1" strike="noStrike">
                <a:solidFill>
                  <a:srgbClr val="6fa8dc"/>
                </a:solidFill>
                <a:latin typeface="Arial"/>
              </a:rPr>
              <a:t>Ethnic Groups</a:t>
            </a:r>
            <a:endParaRPr b="0" lang="en-US" sz="49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45800" y="1422360"/>
            <a:ext cx="966780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b6d7a8"/>
                </a:solidFill>
                <a:latin typeface="Arial"/>
              </a:rPr>
              <a:t>Here is a map showing some different ethnic groups in Russia including Chechnya(Chechen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b6d7a8"/>
                </a:solidFill>
                <a:latin typeface="Arial"/>
              </a:rPr>
              <a:t>                   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b6d7a8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             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1346040" y="2286000"/>
            <a:ext cx="6248520" cy="5146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79440" y="304560"/>
            <a:ext cx="9401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Good Things About Present Russia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379440" y="1828800"/>
            <a:ext cx="9401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9966ff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9966ff"/>
                </a:solidFill>
                <a:latin typeface="Arial"/>
              </a:rPr>
              <a:t>Russia has followed the United States in their government and economy style. Now they have adopted a free market economy and a democracy. People now in Russia can vote for their leader and put prices on products freel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>
              <a:lnSpc>
                <a:spcPct val="95000"/>
              </a:lnSpc>
              <a:buClr>
                <a:srgbClr val="66ffcc"/>
              </a:buClr>
              <a:buSzPct val="5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66ffcc"/>
                </a:solidFill>
                <a:latin typeface="Arial"/>
              </a:rPr>
              <a:t>Russia is starting their first suburbs around cities. This idea may give people more space, but still be close to citi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5240" y="5257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 </cp:lastModifiedBy>
  <dcterms:modified xsi:type="dcterms:W3CDTF">2010-12-20T13:55:34Z</dcterms:modified>
  <cp:revision>7</cp:revision>
  <dc:subject/>
  <dc:title>PowerPoint Presentation</dc:title>
</cp:coreProperties>
</file>